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6F20-7876-4CE3-9E00-A89E5C0F2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6D29-05B2-4DDF-99D3-AF6CE1B0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991D-25BD-4FA1-BAA2-17923CE1B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E263-6459-4AA0-9BCB-C767F545F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92C6-7664-4FE0-B529-86194245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721D-D1CA-4598-A190-D8741DF6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AD42-CBA8-46DD-A9D2-63056BEF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41C0-7118-4762-A3D5-95C5E084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007D-51BB-4CCB-8444-31CC0A5B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8A0B-FE72-4DC3-9778-AD44B894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8058-1838-4906-BBB1-C43B751A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3A40-5522-4480-8B7E-EC3D1412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FC5A-3ED8-4168-A132-649CFFEF1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ome to the religious channe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we will be discussing Chinas 2 main religions  of Chi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ddhis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dhism is the beliefs of the teachings of the Buddha. The Buddha also gave some teachings in India. He also explained if you were in a happy state of mind you would it would result in good fortunes and great happiness. He also believed if you were in a negative state of mind suffering and bad things would ari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971800" y="40384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ois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oism was created in 100 C.E. It is still a major religion in China. Daoism is the belief of finding the “Way” or the dau of the universe.  Many people in the country still use this major religion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be back next week with the religion of Japan. We thank you for your contributions and information from viewers like yo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13:20:41Z</dcterms:created>
  <dc:creator>Administrator</dc:creator>
  <dc:description/>
  <dc:language>en-US</dc:language>
  <cp:lastModifiedBy>ebrown</cp:lastModifiedBy>
  <dcterms:modified xsi:type="dcterms:W3CDTF">2011-10-26T13:35:14Z</dcterms:modified>
  <cp:revision>4</cp:revision>
  <dc:subject/>
  <dc:title>Welcome to the religious channel </dc:title>
</cp:coreProperties>
</file>